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D32-F8B9-4FB2-847A-4AC04E38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1C5-6E55-4A5B-A1C8-893748D1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46D-CCEE-4B60-87D3-50E8B4C5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611-6BB7-4378-B40C-D78C0703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660-50EA-4CF9-932C-B72D1168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8B2-73AA-4EE1-BEE4-7C49043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A01-2D7F-4453-A894-019610C6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618-FDF3-4658-9ABC-1BA12C3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5A0-235A-4E3B-8F71-6B711F6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126-82E0-42BB-A22D-D9FAF54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0D4-415C-4E6A-AB67-4F65FB7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B3C-4A31-4B9D-B7CB-23F61BC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E00-F169-496F-B742-E292C2E9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Continental Congress declared independence in 1776, the revolution wasn’t won until 17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finally signed the Treaty of Paris in 1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the Americans had to decide how to run their newly independen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merican_revolution"/>
          <p:cNvPicPr/>
          <p:nvPr/>
        </p:nvPicPr>
        <p:blipFill>
          <a:blip r:embed="rId1"/>
          <a:stretch/>
        </p:blipFill>
        <p:spPr>
          <a:xfrm>
            <a:off x="5105520" y="1295280"/>
            <a:ext cx="348768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ing 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76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wartime allies, along with its enemy were now becoming its ri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paid debts and a failing economy had caused many European powers to loose what little respect they had for the new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784, Spain closed the Mississippi River to American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 also negotiated with settlers in Kentucky and Tennessee about taking control of those 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Britain had military forts in the U.S.’s northwest territory, in violation of the peace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ain also tried to convince Vermont to leave the seemingly collapsing nation and become part of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T041504A"/>
          <p:cNvPicPr/>
          <p:nvPr/>
        </p:nvPicPr>
        <p:blipFill>
          <a:blip r:embed="rId1"/>
          <a:srcRect l="44685" t="0" r="0" b="0"/>
          <a:stretch/>
        </p:blipFill>
        <p:spPr>
          <a:xfrm>
            <a:off x="457200" y="1295280"/>
            <a:ext cx="32130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ck stops no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if not being able to settle disputes with foreign rivals wasn’t bad enough, there was no way to settle disputes between th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were no Federal Courts to solve these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, without federal courts, the final say on interpreting the law resided with state cou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eant that the Articles and federal law could be interpreted differently depending on where you w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as confusing, and further divided the new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t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57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nuary 1787, an insurrection of western Massachusetts farmers rose up against new taxes to pay off deb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ecame known as “Shays Rebellion” for its leader, Daniel Sh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failure, as state militia broke them up, firing only once.  Four were killed and they all ran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victory of sorts, as next year the state legislature cut the taxes they were protesting 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de many people fearful that stronger central government was needed, or the nation would plunge into an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hays"/>
          <p:cNvPicPr/>
          <p:nvPr/>
        </p:nvPicPr>
        <p:blipFill>
          <a:blip r:embed="rId1"/>
          <a:stretch/>
        </p:blipFill>
        <p:spPr>
          <a:xfrm>
            <a:off x="4929120" y="1295280"/>
            <a:ext cx="3627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akness of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3920" y="1371600"/>
            <a:ext cx="4038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ruled,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real head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were 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ion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power to collec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national mone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 states had the same vote, no matter how large or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e governments were su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power to enforce it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scseventy1"/>
          <p:cNvPicPr/>
          <p:nvPr/>
        </p:nvPicPr>
        <p:blipFill>
          <a:blip r:embed="rId1"/>
          <a:stretch/>
        </p:blipFill>
        <p:spPr>
          <a:xfrm>
            <a:off x="457200" y="1406520"/>
            <a:ext cx="3886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for new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6 years under the Articles, American leaders realized their government was fa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May 25, 1787 delegates from 12 states me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hiladelph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reate a new plan of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state do you think stayed away? 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091602-2"/>
          <p:cNvPicPr/>
          <p:nvPr/>
        </p:nvPicPr>
        <p:blipFill>
          <a:blip r:embed="rId1"/>
          <a:stretch/>
        </p:blipFill>
        <p:spPr>
          <a:xfrm>
            <a:off x="4495680" y="1911240"/>
            <a:ext cx="44960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ld in Philadelphi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starting on May 25,1787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s chosen to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 conven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njamin Franklin, at age 83, helped negotiate many comprom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flicts would develop between groups of states.  What issues do you think would divide the stat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benf-0"/>
          <p:cNvPicPr/>
          <p:nvPr/>
        </p:nvPicPr>
        <p:blipFill>
          <a:blip r:embed="rId1"/>
          <a:stretch/>
        </p:blipFill>
        <p:spPr>
          <a:xfrm>
            <a:off x="4584600" y="1600200"/>
            <a:ext cx="4249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legates from Virginia introduced a pl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by the larg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reated an Executive and Nation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would have representation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mostly written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notebook is the only written rec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hav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vc6p1"/>
          <p:cNvPicPr/>
          <p:nvPr/>
        </p:nvPicPr>
        <p:blipFill>
          <a:blip r:embed="rId1"/>
          <a:stretch/>
        </p:blipFill>
        <p:spPr>
          <a:xfrm>
            <a:off x="5119560" y="1295280"/>
            <a:ext cx="3411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d a plan of their own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Governor William Patterson of New Jer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lle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tates to have equal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ongress, regardless of size or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aterson_w_110"/>
          <p:cNvPicPr/>
          <p:nvPr/>
        </p:nvPicPr>
        <p:blipFill>
          <a:blip r:embed="rId1"/>
          <a:stretch/>
        </p:blipFill>
        <p:spPr>
          <a:xfrm>
            <a:off x="6324480" y="5257800"/>
            <a:ext cx="1376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the “Connecticut Pla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t brought together the VA and NJ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a 2-house Con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nate would give equal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House of Representatives would base representation on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as agreed to on June 29, 1787, saving the convention from breaking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omptoon"/>
          <p:cNvPicPr/>
          <p:nvPr/>
        </p:nvPicPr>
        <p:blipFill>
          <a:blip r:embed="rId1"/>
          <a:stretch/>
        </p:blipFill>
        <p:spPr>
          <a:xfrm>
            <a:off x="4648320" y="1219320"/>
            <a:ext cx="41529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 of slavery would almost end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Great Compromise, how to count slaves as part of the population became an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it was the northern or southern states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count slaves the same as free whites when determining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gordon"/>
          <p:cNvPicPr/>
          <p:nvPr/>
        </p:nvPicPr>
        <p:blipFill>
          <a:blip r:embed="rId1"/>
          <a:stretch/>
        </p:blipFill>
        <p:spPr>
          <a:xfrm>
            <a:off x="228600" y="4191120"/>
            <a:ext cx="196848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lavead"/>
          <p:cNvPicPr/>
          <p:nvPr/>
        </p:nvPicPr>
        <p:blipFill>
          <a:blip r:embed="rId2"/>
          <a:stretch/>
        </p:blipFill>
        <p:spPr>
          <a:xfrm>
            <a:off x="1398600" y="1219320"/>
            <a:ext cx="2249640" cy="273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timeline_lead"/>
          <p:cNvPicPr/>
          <p:nvPr/>
        </p:nvPicPr>
        <p:blipFill>
          <a:blip r:embed="rId3"/>
          <a:stretch/>
        </p:blipFill>
        <p:spPr>
          <a:xfrm>
            <a:off x="2209680" y="4343400"/>
            <a:ext cx="22100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States of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ticles of Confeder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cre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a new gover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overnments were considered to be su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deral government was very limited in it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351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3/5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outh wanted slaves to count as people because they had so many, this would make them more powerful in Cong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thern states were afraid of losing power to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ompromise was made t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unt all African slaves as 3/5 of a free perso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was known as the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3/5 Compr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outh also agreed to let Congress regulate trade in exchange for a promise that Congress could not interfere with the slave trade for 20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, a Constit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ll the compromises, the convention set out to write down thei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uverneur Morris led the committee that actually wrote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approved it on September 17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Gouverneur Morris."/>
          <p:cNvPicPr/>
          <p:nvPr/>
        </p:nvPicPr>
        <p:blipFill>
          <a:blip r:embed="rId1"/>
          <a:stretch/>
        </p:blipFill>
        <p:spPr>
          <a:xfrm>
            <a:off x="4741920" y="1523880"/>
            <a:ext cx="394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ling the new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decided the Constitution would take affect when 9 of the 13 states approv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in favor of it, whil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to convince people not to appro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constitution"/>
          <p:cNvPicPr/>
          <p:nvPr/>
        </p:nvPicPr>
        <p:blipFill>
          <a:blip r:embed="rId1"/>
          <a:stretch/>
        </p:blipFill>
        <p:spPr>
          <a:xfrm>
            <a:off x="244440" y="1371600"/>
            <a:ext cx="4237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gued that the U.S. could not survive without a strong cent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Hamilton, James Madison and John Jay wro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ederalist Pap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nvince Americans of the need to approve the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federalists"/>
          <p:cNvPicPr/>
          <p:nvPr/>
        </p:nvPicPr>
        <p:blipFill>
          <a:blip r:embed="rId1"/>
          <a:stretch/>
        </p:blipFill>
        <p:spPr>
          <a:xfrm>
            <a:off x="2514600" y="1219320"/>
            <a:ext cx="4419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nti-federalists"/>
          <p:cNvPicPr/>
          <p:nvPr/>
        </p:nvPicPr>
        <p:blipFill>
          <a:blip r:embed="rId1"/>
          <a:stretch/>
        </p:blipFill>
        <p:spPr>
          <a:xfrm>
            <a:off x="2103480" y="228600"/>
            <a:ext cx="5573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Fede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eared the federalists would create a tyra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led by Patrick Henry and George M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opposition led to a Bill of Rights being added to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PatrickPortrait(small)"/>
          <p:cNvPicPr/>
          <p:nvPr/>
        </p:nvPicPr>
        <p:blipFill>
          <a:blip r:embed="rId1"/>
          <a:stretch/>
        </p:blipFill>
        <p:spPr>
          <a:xfrm>
            <a:off x="4800600" y="1295280"/>
            <a:ext cx="409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ware becam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to approve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21, 1788, New Hampshire became the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was the last, finally ratifying in 1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ticles were adopted On November 15, 1777 in Con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till had to be ratified by all the states to become of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quickly did so, but Maryland held out until 1781, demanding that large states give up their western land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foreshadowed the problems one state could cause under the 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aryland"/>
          <p:cNvPicPr/>
          <p:nvPr/>
        </p:nvPicPr>
        <p:blipFill>
          <a:blip r:embed="rId1"/>
          <a:stretch/>
        </p:blipFill>
        <p:spPr>
          <a:xfrm>
            <a:off x="5943600" y="5257800"/>
            <a:ext cx="1793880" cy="142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olonial_1689-1783"/>
          <p:cNvPicPr/>
          <p:nvPr/>
        </p:nvPicPr>
        <p:blipFill>
          <a:blip r:embed="rId2"/>
          <a:stretch/>
        </p:blipFill>
        <p:spPr>
          <a:xfrm>
            <a:off x="4495680" y="1447920"/>
            <a:ext cx="43038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erpetual un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45720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established “Articles of Confederation and perpetual Union between the states of …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, it wasn’t the union we know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ate retains its sovereignty, freedom, and independence, and every power, jurisdiction, and right, which is not by this Confederation expressly delegated to the United States, in Congress assembled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, it was a working agreement between independent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join_die"/>
          <p:cNvPicPr/>
          <p:nvPr/>
        </p:nvPicPr>
        <p:blipFill>
          <a:blip r:embed="rId1"/>
          <a:srcRect l="1887" t="1255" r="5661" b="7498"/>
          <a:stretch/>
        </p:blipFill>
        <p:spPr>
          <a:xfrm>
            <a:off x="152280" y="2274840"/>
            <a:ext cx="4267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reated a Congress to serve as the national legisl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ate could send from 2-7 representatives; however they voted as on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atter how many representatives were there, each state got only 1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you think of any problems this might cau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rder to pass new law, 9 of the 13 states had to ag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ould that affect how business got d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icles allowed the Congress to pass laws and taxes, but gave it no way to enforc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the states just ignored the federa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itself new powers, such as passing new taxes, all 13 states had to 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new taxes do you think were pa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 of 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nk was one notable failur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Morris, who had been named Superintendent of Finance by Congress, was given a charter by Congress to create a Bank of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have held accounts for the nation, issued paper money and loaned the government money when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ney to create it would come from a 5% tax on imported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states agreed on this tax, but since Rhode Island did not, it was not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nk never was created, and the American economy suffered grea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morris"/>
          <p:cNvPicPr/>
          <p:nvPr/>
        </p:nvPicPr>
        <p:blipFill>
          <a:blip r:embed="rId1"/>
          <a:srcRect l="0" t="13619" r="15221" b="0"/>
          <a:stretch/>
        </p:blipFill>
        <p:spPr>
          <a:xfrm>
            <a:off x="5029200" y="1447920"/>
            <a:ext cx="36752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R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ing out of the Revolution, the United States owed $160 million in war deb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votes to increase taxes to pay this debt fai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ney issued by the Congress and the states became almost worthless, as inflation was out of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s rarely paid more than ½ of the taxes that were approved, and Congress could do nothing about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PA-08-06-89-C-1p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in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government also had no strong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gress selected someone to be its “President”.  He presided over the sessions as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he was the weakest member of the Congress; he could not participate in debates or even vot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did not have any power to act independently, only as a part of Con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would a lack of leadership be most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Thomson-Nader-InvSMjpg"/>
          <p:cNvPicPr/>
          <p:nvPr/>
        </p:nvPicPr>
        <p:blipFill>
          <a:blip r:embed="rId1"/>
          <a:srcRect l="0" t="0" r="51610" b="51708"/>
          <a:stretch/>
        </p:blipFill>
        <p:spPr>
          <a:xfrm>
            <a:off x="5181480" y="1676520"/>
            <a:ext cx="3073680" cy="396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5334120" y="5715000"/>
            <a:ext cx="28954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les Thomson served in this role for the duration of the Articles of Confe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14:19:48Z</dcterms:created>
  <dc:creator>Phil McGinnis</dc:creator>
  <dc:description/>
  <dc:language>en-US</dc:language>
  <cp:lastModifiedBy>Phillip C. McGinnis</cp:lastModifiedBy>
  <dcterms:modified xsi:type="dcterms:W3CDTF">2012-11-09T19:08:48Z</dcterms:modified>
  <cp:revision>37</cp:revision>
  <dc:subject/>
  <dc:title>To the Constitution</dc:title>
</cp:coreProperties>
</file>